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6459-0F97-4686-B619-6F168DF04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177D-5C61-4D13-8231-D1598AEF2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15FC-3868-4059-8680-C8E1B4DB5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0491-BE23-4896-8DDF-E7993C95E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157E-CE89-4F3D-9FA5-46FCDC795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D7E0-B357-4DFA-85C5-511718F95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89EF-1002-4F46-893E-D4405D169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79FF-1177-4A4D-A452-B1106E8B0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E1FA-A965-4119-9045-0A70F89AA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C2CE-5393-496D-8508-7962445A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F93C-6ECB-4938-9C07-68B913B7A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B952-CF9F-4D70-BF38-61A99FB4E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3443E-7F42-415D-B902-CB212FA24E5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99"/>
                </a:solidFill>
                <a:latin typeface="Arial"/>
              </a:rPr>
              <a:t>Физиологические и социопсихологические особенности подросткового возраста как факторы развития аддиктивного поведения и наркопатологии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066680" y="302760"/>
            <a:ext cx="7239240" cy="30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Addiction</a:t>
            </a:r>
            <a:r>
              <a:rPr b="0" lang="ru-RU" sz="2400" spc="-1" strike="noStrike">
                <a:solidFill>
                  <a:srgbClr val="00ff00"/>
                </a:solidFill>
                <a:latin typeface="Arial"/>
              </a:rPr>
              <a:t>(англ.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- пагубная привычка, пристрастие к чему-либо, порочная склоннос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ff00"/>
                </a:solidFill>
                <a:latin typeface="Arial"/>
              </a:rPr>
              <a:t>Аддиктивное поведение(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addictive behavior</a:t>
            </a:r>
            <a:r>
              <a:rPr b="0" lang="ru-RU" sz="2400" spc="-1" strike="noStrike">
                <a:solidFill>
                  <a:srgbClr val="00ff00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- стремление к уходу от реальности посредством злоупотребления различными веществами, изменяющими психическое состояние, включая алкоголь и курение табака до того, как от них сформировалась физическая зависимос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90920" y="3581280"/>
            <a:ext cx="409572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Нарушение поведения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510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Реакция эмансипаци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Реакция увлечения (хобби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Телесно-мануальные хобб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Информативно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коммуникативные хобб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Реакции, обусловленные формирующимся сексуальным влечение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6629400" y="2209680"/>
            <a:ext cx="177480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ff00"/>
                </a:solidFill>
                <a:latin typeface="Arial"/>
              </a:rPr>
              <a:t>Реакция группирования со сверстниками как ведущий социопсихологический фактор</a:t>
            </a: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523880" y="2057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рриториальные групп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елинквентные (преступные) групп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ркоманические группы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895480" y="3886200"/>
            <a:ext cx="350532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Arial"/>
              </a:rPr>
              <a:t>Роль различных видов группировок подростков для возникновения аддиктивного поведения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28600" y="914400"/>
          <a:ext cx="8763120" cy="5665680"/>
        </p:xfrm>
        <a:graphic>
          <a:graphicData uri="http://schemas.openxmlformats.org/drawingml/2006/table">
            <a:tbl>
              <a:tblPr/>
              <a:tblGrid>
                <a:gridCol w="6286680"/>
                <a:gridCol w="24764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д группы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надлежность, %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рриториальные группы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формальные объединения подростков («хиппи», «панки» и др.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мпании наркоманов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диночки, не принадлежащие ни к каким подростковым группа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лучайные компании (знакомства на дискотеках, в барах, на танцах и т.п.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дин постоянный приятель, ставший соблазнителем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линквентные и криминальные группы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мпании гомосексуалистов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рупповая принадлежность осталась неясной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99"/>
                </a:solidFill>
                <a:latin typeface="Arial"/>
              </a:rPr>
              <a:t>Нарушения взаимоотношений в семье как предрасполагающий фактор развития аддиктивного поведения и наркопатологии</a:t>
            </a: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80520" y="1600200"/>
            <a:ext cx="8458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.    «Скука», безделье, незанятость – 1%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40" indent="61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личие наркоманов - членов семьи - 1%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3. Переживание собственной сексуальной неполноценности (импотенция, гомосексуализм) – 3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40" indent="61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аскрытие факта усыновления – 3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40" indent="61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азвитие психоза у одного из родителей – 3%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6.  Непосредственно предшествующие злоупотреблению трагические события в семье (суицид одного из родителей и т.п.) – 4%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40" indent="61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Лишение роли «кумира семьи» - 6%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40" indent="61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ложение «Золушки» в связи с изменением состава семьи (появление отчима и т.п.) – 7%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9. Вынужденная разлука с лицом, к кому была сильная эмоциональная привязанность – 8%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40" indent="61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твержение со стороны сверстников из-за физического недостатка - 9 %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1.  Помещение в специальный интернат для трудных подростков – 9%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40" indent="61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Бунт против чрезмерной опеки со стороны родителей и других членов семьи - 12%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3.  Алкоголизм матери – 13%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40" indent="61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«Семейный крах», резко изменившийся социальный и психологический статус подростка – 14%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5.  Эмоциональное отвержение со стороны матери – 17%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40" indent="61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стоянные конфликты между родителями – 17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7.  Невозможность удовлетворить завышенные притязания в отношении своего будущего - 18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8.  Жестокое обращение с подростком в семье – 19%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9. Алкоголизм отца – 22%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40" indent="61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есостоятельность в учебе – 27%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1.  Способствующие условия остались невыясненными – 15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34290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Неполная семья, безотцовщина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Реформированные семь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социальные семь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Гиперпротекция в воспитани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Эмоциональное отвержение со стороны родителей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438280" y="228600"/>
            <a:ext cx="4305600" cy="28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9-03-29T17:57:59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