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1F5-DC8A-461E-B933-9A8E2F4B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433-33E8-4BDD-80FB-E89238FB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1DA-1790-4FD9-8F84-A1FCB190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681-2B78-4114-8586-2CB5B952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8611-3B40-40AC-871D-37AA6B01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45E3-F38D-4E3F-96BB-A926769B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6882-2A60-4000-B19B-7CC385D2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A89B-62AC-47B4-9DB3-BA2A30FC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46D7-BA7B-439C-A8E5-9E90E3CD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445F-9573-45F5-B453-4A699509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8524-2FA1-4D53-BBEE-673B4FBC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3B4-5383-49EC-AD5C-C7EC227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0B82-A32E-4905-9F50-EB63240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C2BB-FBF1-41A4-8C63-8978A5BA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115B-23C2-46B2-9F3A-DF9A0D94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D91-F7A4-44D7-88DC-45842DB0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81E3-64B6-4B6F-A43D-B6BDBC24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283-0CF0-4059-9E7D-BAADC749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F68-E915-40FB-9CCD-2CB54A93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0CD-587C-42F7-9892-6DA09849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82B-7D6B-4144-AB43-D33939D2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736-57B3-4DA8-B813-690B009B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EFC-D293-4D99-BF57-7DFBBDBA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0D8-81A5-45C1-B370-5D31E794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AC12-BF53-45E3-B220-FA2BFE9536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88D-6F18-4E1F-93B7-6F5CECD447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4008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1596240"/>
            <a:ext cx="4724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 рассказа требуется четкость изображения места действия, живость действующих лиц, точность и краткость языка, – рассказ должен быть написан так, чтобы читатель видел все, о чем рассказывает авто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.Гор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400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чего все начало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развивались событ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какой картинке изображен самый острый момент в развитии действ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разговор мог произойти между героями этого происшеств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вы думаете, как он поступит дальш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43000" y="304920"/>
            <a:ext cx="6705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685800"/>
            <a:ext cx="655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забываем про реальный ми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ередную книгу откры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 мир художественный проник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опадаем на войну иль п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в тишине страницами шурш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м так близка история гер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лачем о судьбе, ему же вто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радуемся жизни вмес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 за листом…На каждый слов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ит в ряд, шепча о разных судьб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добрых или злых, но всё же люд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-под писательского щедрого п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8002" t="12014" r="0" b="0"/>
          <a:stretch/>
        </p:blipFill>
        <p:spPr>
          <a:xfrm>
            <a:off x="6934320" y="3200400"/>
            <a:ext cx="17524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Составление рассказа по сюжетным картинкам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3048120"/>
            <a:ext cx="52578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685800"/>
            <a:ext cx="655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абываем про реальный ми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ередную книгу откры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 мир художественный проник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опадаем на войну иль п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тишине страницами шурш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На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ак близка история гер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лачем о судьбе,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ем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же вто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радуемся жизни вместе с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ни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 за листом…На каждый слов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ит в ряд, шепча о разных судьб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добрых или злых, но всё же люд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-под писательского щедрого п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зряды местоимений по значени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5640" y="2590920"/>
            <a:ext cx="39625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звратн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носите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просительны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0066"/>
                </a:solidFill>
                <a:latin typeface="Arial"/>
              </a:rPr>
              <a:t>Рассказ 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ебольшое прозаическое произведение, рисующее одно, реже – несколько событий с малым количеством действующих ли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мпозиция расска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вяз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ульминац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азвяз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4008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лан текста-повеств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Завяз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Развитие 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Кульмин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Развяз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5.)Заключение/Выводы/Послеслов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3-04T17:51:3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